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1C3F-D4BD-48C7-BDC3-EDC5135B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10D0-2C18-429D-8662-F127666F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68DA-A5C6-4C9F-8684-FBC20EE0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3EA3-D6E3-4437-A3AF-1DB052BB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8B5C-429E-4E74-B1A4-83714132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FC45-F31C-458E-BB2D-9840F609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B145-2375-442B-96DF-5ED286A4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EE5-FE6F-445D-917E-09B423EE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00B5-40BF-4B35-BBBE-66C3F31F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6F14-C6D0-470B-A634-87707EC2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401E-2A19-4922-BD4E-D54FB7E6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2B0-E7AE-4E56-BF70-A93D239B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8E49-5911-4822-B0D1-9D4A8366F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9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14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20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2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30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5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0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15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21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26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31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6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1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16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22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27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32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7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12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1.png"/><Relationship Id="rId63" Type="http://schemas.openxmlformats.org/officeDocument/2006/relationships/slide" Target="slide23.xml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2.png"/><Relationship Id="rId67" Type="http://schemas.openxmlformats.org/officeDocument/2006/relationships/image" Target="../media/image1.png"/><Relationship Id="rId68" Type="http://schemas.openxmlformats.org/officeDocument/2006/relationships/slide" Target="slide33.xml"/><Relationship Id="rId69" Type="http://schemas.openxmlformats.org/officeDocument/2006/relationships/image" Target="../media/image2.png"/><Relationship Id="rId70" Type="http://schemas.openxmlformats.org/officeDocument/2006/relationships/image" Target="../media/image1.png"/><Relationship Id="rId71" Type="http://schemas.openxmlformats.org/officeDocument/2006/relationships/slide" Target="slide8.xml"/><Relationship Id="rId72" Type="http://schemas.openxmlformats.org/officeDocument/2006/relationships/image" Target="../media/image2.png"/><Relationship Id="rId73" Type="http://schemas.openxmlformats.org/officeDocument/2006/relationships/image" Target="../media/image1.png"/><Relationship Id="rId74" Type="http://schemas.openxmlformats.org/officeDocument/2006/relationships/slide" Target="slide13.xml"/><Relationship Id="rId75" Type="http://schemas.openxmlformats.org/officeDocument/2006/relationships/image" Target="../media/image2.png"/><Relationship Id="rId76" Type="http://schemas.openxmlformats.org/officeDocument/2006/relationships/image" Target="../media/image1.png"/><Relationship Id="rId77" Type="http://schemas.openxmlformats.org/officeDocument/2006/relationships/slide" Target="slide19.xml"/><Relationship Id="rId78" Type="http://schemas.openxmlformats.org/officeDocument/2006/relationships/image" Target="../media/image2.png"/><Relationship Id="rId79" Type="http://schemas.openxmlformats.org/officeDocument/2006/relationships/image" Target="../media/image1.png"/><Relationship Id="rId80" Type="http://schemas.openxmlformats.org/officeDocument/2006/relationships/slide" Target="slide24.xml"/><Relationship Id="rId81" Type="http://schemas.openxmlformats.org/officeDocument/2006/relationships/image" Target="../media/image2.png"/><Relationship Id="rId82" Type="http://schemas.openxmlformats.org/officeDocument/2006/relationships/image" Target="../media/image1.png"/><Relationship Id="rId83" Type="http://schemas.openxmlformats.org/officeDocument/2006/relationships/slide" Target="slide29.xml"/><Relationship Id="rId84" Type="http://schemas.openxmlformats.org/officeDocument/2006/relationships/image" Target="../media/image2.png"/><Relationship Id="rId85" Type="http://schemas.openxmlformats.org/officeDocument/2006/relationships/image" Target="../media/image1.png"/><Relationship Id="rId86" Type="http://schemas.openxmlformats.org/officeDocument/2006/relationships/slide" Target="slide34.xml"/><Relationship Id="rId87" Type="http://schemas.openxmlformats.org/officeDocument/2006/relationships/image" Target="../media/image2.png"/><Relationship Id="rId88" Type="http://schemas.openxmlformats.org/officeDocument/2006/relationships/image" Target="../media/image1.png"/><Relationship Id="rId89" Type="http://schemas.openxmlformats.org/officeDocument/2006/relationships/image" Target="../media/image1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3.jpeg"/><Relationship Id="rId95" Type="http://schemas.openxmlformats.org/officeDocument/2006/relationships/image" Target="../media/image4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5.png"/><Relationship Id="rId98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uscles can only cause movement by doing this ac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6002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uscles that move the same body part in opposite directions are called this.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ne of the two types of muscles that are striate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n elastic connective tissue that connects bone to bon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2193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process involves the movement of the ribs outward, and the movement of the diaphragm dow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epiglottis prevents this from happen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143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se structures, also called air sacs, are the site of gas exchange in the lung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alveoli are surrounded by these structur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2952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lungs provide the human body with this substance, which is necessary for cellular respira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666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Blood plasma is mostly th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aterials are exchang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between these blood vesse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&amp; cells of the bod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666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function of red blood cell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 heart attack may be the </a:t>
            </a:r>
            <a:r>
              <a:rPr b="0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direct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result of th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is how the circulatory system and the excretory system are relate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905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type of blood cell engulfs foreign cells like bacteri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Your body’s FIRST line of defense against infec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808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en you have one of these, your body purposely disrupts homeostasis in order to make an unwelcome environment for pathogens such as viruses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2952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is given to create immunity to a disease, &amp; it may actually contain a weakened form of that diseas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6002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disease attacks the immune system, leaving the body open to serious infection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creenj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1" name="blue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2" name="screenj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lue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5" name="screenj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blue" descr="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screenj" descr="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blue" descr="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screenj" descr="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blue" descr="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screenj" descr="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lue" descr="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screenj" descr="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lue" descr="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screenj" descr="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blue" descr="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screenj" descr="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blue" descr="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screenj" descr="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lue" descr="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screenj" descr="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blue" descr="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screenj" descr="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blue" descr="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screenj" descr="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lue" descr="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88" name="screenj" descr="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blue" descr="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1" name="screenj" descr="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blue" descr="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screenj" descr="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lue" descr="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screenj" descr="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lue" descr="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screenj" descr="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blue" descr="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screenj" descr="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blue" descr="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6" name="screenj" descr="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blue" descr="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9" name="screenj" descr="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lue" descr=""/>
          <p:cNvPicPr/>
          <p:nvPr/>
        </p:nvPicPr>
        <p:blipFill>
          <a:blip r:embed="rId61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screenj" descr=""/>
          <p:cNvPicPr/>
          <p:nvPr/>
        </p:nvPicPr>
        <p:blipFill>
          <a:blip r:embed="rId62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3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blue" descr=""/>
          <p:cNvPicPr/>
          <p:nvPr/>
        </p:nvPicPr>
        <p:blipFill>
          <a:blip r:embed="rId64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screenj" descr=""/>
          <p:cNvPicPr/>
          <p:nvPr/>
        </p:nvPicPr>
        <p:blipFill>
          <a:blip r:embed="rId65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blue" descr=""/>
          <p:cNvPicPr/>
          <p:nvPr/>
        </p:nvPicPr>
        <p:blipFill>
          <a:blip r:embed="rId66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screenj" descr=""/>
          <p:cNvPicPr/>
          <p:nvPr/>
        </p:nvPicPr>
        <p:blipFill>
          <a:blip r:embed="rId67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blue" descr=""/>
          <p:cNvPicPr/>
          <p:nvPr/>
        </p:nvPicPr>
        <p:blipFill>
          <a:blip r:embed="rId69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screenj" descr=""/>
          <p:cNvPicPr/>
          <p:nvPr/>
        </p:nvPicPr>
        <p:blipFill>
          <a:blip r:embed="rId70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blue" descr=""/>
          <p:cNvPicPr/>
          <p:nvPr/>
        </p:nvPicPr>
        <p:blipFill>
          <a:blip r:embed="rId72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screenj" descr=""/>
          <p:cNvPicPr/>
          <p:nvPr/>
        </p:nvPicPr>
        <p:blipFill>
          <a:blip r:embed="rId73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lue" descr=""/>
          <p:cNvPicPr/>
          <p:nvPr/>
        </p:nvPicPr>
        <p:blipFill>
          <a:blip r:embed="rId7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screenj" descr=""/>
          <p:cNvPicPr/>
          <p:nvPr/>
        </p:nvPicPr>
        <p:blipFill>
          <a:blip r:embed="rId7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7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blue" descr=""/>
          <p:cNvPicPr/>
          <p:nvPr/>
        </p:nvPicPr>
        <p:blipFill>
          <a:blip r:embed="rId78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screenj" descr=""/>
          <p:cNvPicPr/>
          <p:nvPr/>
        </p:nvPicPr>
        <p:blipFill>
          <a:blip r:embed="rId79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blue" descr=""/>
          <p:cNvPicPr/>
          <p:nvPr/>
        </p:nvPicPr>
        <p:blipFill>
          <a:blip r:embed="rId81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screenj" descr=""/>
          <p:cNvPicPr/>
          <p:nvPr/>
        </p:nvPicPr>
        <p:blipFill>
          <a:blip r:embed="rId82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blue" descr=""/>
          <p:cNvPicPr/>
          <p:nvPr/>
        </p:nvPicPr>
        <p:blipFill>
          <a:blip r:embed="rId84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screenj" descr=""/>
          <p:cNvPicPr/>
          <p:nvPr/>
        </p:nvPicPr>
        <p:blipFill>
          <a:blip r:embed="rId85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lue" descr=""/>
          <p:cNvPicPr/>
          <p:nvPr/>
        </p:nvPicPr>
        <p:blipFill>
          <a:blip r:embed="rId87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screenj" descr=""/>
          <p:cNvPicPr/>
          <p:nvPr/>
        </p:nvPicPr>
        <p:blipFill>
          <a:blip r:embed="rId88"/>
          <a:stretch/>
        </p:blipFill>
        <p:spPr>
          <a:xfrm>
            <a:off x="152280" y="914400"/>
            <a:ext cx="14479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0" name="screenj" descr=""/>
          <p:cNvPicPr/>
          <p:nvPr/>
        </p:nvPicPr>
        <p:blipFill>
          <a:blip r:embed="rId89"/>
          <a:stretch/>
        </p:blipFill>
        <p:spPr>
          <a:xfrm>
            <a:off x="167652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1" name="screenj" descr=""/>
          <p:cNvPicPr/>
          <p:nvPr/>
        </p:nvPicPr>
        <p:blipFill>
          <a:blip r:embed="rId90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2" name="screenj" descr=""/>
          <p:cNvPicPr/>
          <p:nvPr/>
        </p:nvPicPr>
        <p:blipFill>
          <a:blip r:embed="rId91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3" name="screenj" descr=""/>
          <p:cNvPicPr/>
          <p:nvPr/>
        </p:nvPicPr>
        <p:blipFill>
          <a:blip r:embed="rId92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4" name="screenj" descr=""/>
          <p:cNvPicPr/>
          <p:nvPr/>
        </p:nvPicPr>
        <p:blipFill>
          <a:blip r:embed="rId93"/>
          <a:stretch/>
        </p:blipFill>
        <p:spPr>
          <a:xfrm>
            <a:off x="762012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jeplogo2" descr=""/>
          <p:cNvPicPr/>
          <p:nvPr/>
        </p:nvPicPr>
        <p:blipFill>
          <a:blip r:embed="rId94"/>
          <a:stretch/>
        </p:blipFill>
        <p:spPr>
          <a:xfrm>
            <a:off x="1370160" y="0"/>
            <a:ext cx="6402240" cy="914400"/>
          </a:xfrm>
          <a:prstGeom prst="rect">
            <a:avLst/>
          </a:prstGeom>
          <a:ln w="0">
            <a:noFill/>
          </a:ln>
        </p:spPr>
      </p:pic>
      <p:pic>
        <p:nvPicPr>
          <p:cNvPr id="147" name="finaljep" descr=""/>
          <p:cNvPicPr/>
          <p:nvPr/>
        </p:nvPicPr>
        <p:blipFill>
          <a:blip r:embed="rId95"/>
          <a:stretch/>
        </p:blipFill>
        <p:spPr>
          <a:xfrm>
            <a:off x="8153280" y="228600"/>
            <a:ext cx="962280" cy="577800"/>
          </a:xfrm>
          <a:prstGeom prst="rect">
            <a:avLst/>
          </a:prstGeom>
          <a:ln w="0">
            <a:noFill/>
          </a:ln>
        </p:spPr>
      </p:pic>
      <p:pic>
        <p:nvPicPr>
          <p:cNvPr id="148" name="applause" descr="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99072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HE DIGESTIV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1219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OCOMO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990720"/>
            <a:ext cx="15238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HE RESPIR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990720"/>
            <a:ext cx="16765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HE CIRCUL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21932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MMUNE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0120" y="106668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HE EXCRETORY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20968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8288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se paired organs contain nephrons which filter urea and excess water out of the bloo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6765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structure holds urine temporarily until it is removed from the bod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wo substances excreted by the lung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wo of the substances excreted by sweat glands in the sk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533520"/>
            <a:ext cx="914400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 person is running in a race on a hot day &amp; sweating a great deal.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is what the kidneys must do to urine production in order to maintain homeostas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533520"/>
            <a:ext cx="9144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irculation and Respiration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>
            <a:hlinkClick r:id="rId1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95596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relationship between the respiratory system and the circulatory system is th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43000" y="266688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eristal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tom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219320"/>
            <a:ext cx="914400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term describes the muscular contractions that push food through the digestive trac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Ulc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mall Intest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Eges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14479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ossible Answers: Human, mammals, reptiles, arthropods, etc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ontra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ntagonisti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keletal or Cardia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Ligam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nhal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hok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143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 muscular, “J” shaped organ that digests food chemically and mechanically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lveol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apillar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xy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apillar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o carry oxyg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1143000"/>
            <a:ext cx="9144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 blood clot in the hear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Lack of oxygen to heart muscle cells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16765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blood carries wastes to excretory organs, which excrete them from the bod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ite blood cel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kin, sweat, or te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858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n individual with this digestive system malfunction is suffering from an eroded lining of the stomach.  Very painful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ev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Vacc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.I.D.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Kidney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Urinary blad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2666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arbon dioxide &amp; wa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ater, salts, and ure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26668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Reduce i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6094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respiratory system gets oxygen into the body and the circulatory system transports it to body cell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94760" y="640080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6002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ost digestive end products are absorbed in this digestive system orga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0666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scientific term that describes the process of removing undigested food from the body. (Watch your mouth)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809640"/>
            <a:ext cx="89917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ne of the many type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f organisms that move by th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nteraction of muscles &amp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jointed appendages.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JOE SAC</dc:creator>
  <dc:description/>
  <dc:language>en-US</dc:language>
  <cp:lastModifiedBy>Joesac</cp:lastModifiedBy>
  <dcterms:modified xsi:type="dcterms:W3CDTF">2006-06-17T01:59:30Z</dcterms:modified>
  <cp:revision>69</cp:revision>
  <dc:subject/>
  <dc:title>Body Jeopardy</dc:title>
</cp:coreProperties>
</file>